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558EC-55F2-46A7-B4FC-07848FA85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FFB99-5A62-4986-9343-3BE21BA3B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52BC7-4D9E-4A12-BEBB-C70EE68BB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4202A-9E16-4128-8518-9E5C4E7346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F83-6CB8-42F4-B154-9586CF872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62D6C-AECC-4179-948F-5CC9DCF421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EED83-E03A-446E-88D9-33CD0CC6D6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A165D-8B84-4E66-AF4D-5A2DCF5740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19EA-1CE7-41ED-9EA6-660EB5E188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2C90-4E8D-4843-B7DD-D4BE53BD3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835A2-C06E-4226-8D94-F0A14EEEA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40FBEA-D69F-4EFF-AB19-F8C356C41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281CDF-EEAE-4889-9FD0-41DC46A0982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менск-Уральский  учитель СОШ № 3 им. П.И. Беляева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ршова Еле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moikompas.ru/img/compas/2008-03-25/bezopasnost_deti/52149311_orig.jpg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Ершова Е.Г., классный руководитель 6 класса, учитель СОШ № 3, г. Каменск-Уральск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User</cp:lastModifiedBy>
  <dcterms:modified xsi:type="dcterms:W3CDTF">2018-11-22T10:01:54Z</dcterms:modified>
  <cp:revision>66</cp:revision>
  <dc:subject/>
  <dc:title>Слайд 1</dc:title>
</cp:coreProperties>
</file>