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A39B-20B8-4694-8D67-50D875D99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1D2D-7174-49ED-891E-4314F33C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D00C-21E1-4BA4-8EDD-9E5295B8D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FD9E-CCD5-4E86-9ED9-0127BA769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9266-99CA-46FA-9CFA-0CF7C62D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078D-19E8-41A8-B0F1-AE43D1CD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4DEF-AD4D-4F57-8D70-477E7148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C7F9-9DB4-4218-94FD-3666B191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77D1-E76A-4006-BF08-E9A1CA81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A7B2-006B-4126-8451-3386F207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3E9A-2A82-4D73-B58C-94DEFD0D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E91B-0CFB-4DBC-BBD5-8E156476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FB02-490B-499E-994B-65F5CD52B9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gaf.char.ru/books/_54000026758.jpg" TargetMode="External"/><Relationship Id="rId2" Type="http://schemas.openxmlformats.org/officeDocument/2006/relationships/hyperlink" Target="http://freelance.ru/img/portfolio/big/131736.jpg" TargetMode="External"/><Relationship Id="rId3" Type="http://schemas.openxmlformats.org/officeDocument/2006/relationships/hyperlink" Target="http://www.unde.ru/img.php?src=Ildviz3.jpg" TargetMode="External"/><Relationship Id="rId4" Type="http://schemas.openxmlformats.org/officeDocument/2006/relationships/hyperlink" Target="http://ddt-vmost.narod.ru/pdd/svet.jpg" TargetMode="External"/><Relationship Id="rId5" Type="http://schemas.openxmlformats.org/officeDocument/2006/relationships/hyperlink" Target="http://freelance.ru/img/portfolio/big/131738.jpg" TargetMode="External"/><Relationship Id="rId6" Type="http://schemas.openxmlformats.org/officeDocument/2006/relationships/hyperlink" Target="http://www.net-planet.ru/img/articles/129012.jpg" TargetMode="External"/><Relationship Id="rId7" Type="http://schemas.openxmlformats.org/officeDocument/2006/relationships/hyperlink" Target="http://www.avtocity.org/content/image/11378_1.jpg" TargetMode="External"/><Relationship Id="rId8" Type="http://schemas.openxmlformats.org/officeDocument/2006/relationships/hyperlink" Target="http://www.timeszp.com/public/upload/images/Kar_1/svetofor3.JPG" TargetMode="External"/><Relationship Id="rId9" Type="http://schemas.openxmlformats.org/officeDocument/2006/relationships/hyperlink" Target="http://www.etag.com.ua/img/news/normal/umnye-dorogi-v-stolice-pochti-real-nost-" TargetMode="External"/><Relationship Id="rId10" Type="http://schemas.openxmlformats.org/officeDocument/2006/relationships/hyperlink" Target="http://www.kp.ru/upimg/5a3e8f353c90697f8fa8aa939d18ebfb3dd46ab0/429022.jpg" TargetMode="External"/><Relationship Id="rId11" Type="http://schemas.openxmlformats.org/officeDocument/2006/relationships/hyperlink" Target="http://www.centrpro.ru/plakat/dou/znak/dou_5.jpg" TargetMode="External"/><Relationship Id="rId12" Type="http://schemas.openxmlformats.org/officeDocument/2006/relationships/hyperlink" Target="http://fio.novgorod.ru/projects/Project675/pic8.jpg" TargetMode="External"/><Relationship Id="rId13" Type="http://schemas.openxmlformats.org/officeDocument/2006/relationships/hyperlink" Target="http://www.kp.ru/upimg/photo/65161.jpg" TargetMode="External"/><Relationship Id="rId14" Type="http://schemas.openxmlformats.org/officeDocument/2006/relationships/hyperlink" Target="http://www.rotek-avto.ru/images/1(4)jpg" TargetMode="External"/><Relationship Id="rId15" Type="http://schemas.openxmlformats.org/officeDocument/2006/relationships/hyperlink" Target="http://freelance.ru/img/portfolio/big/131740.jpg" TargetMode="External"/><Relationship Id="rId16" Type="http://schemas.openxmlformats.org/officeDocument/2006/relationships/hyperlink" Target="http://www.unde.ru/img.php?src=Ildviz2.jpg" TargetMode="External"/><Relationship Id="rId17" Type="http://schemas.openxmlformats.org/officeDocument/2006/relationships/hyperlink" Target="http://www.dp59.ru/files/Image/title.jpg" TargetMode="External"/><Relationship Id="rId1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755640" y="189000"/>
            <a:ext cx="77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нструктаж по Правилам дорожного дви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_54000026758"/>
          <p:cNvPicPr/>
          <p:nvPr/>
        </p:nvPicPr>
        <p:blipFill>
          <a:blip r:embed="rId1"/>
          <a:stretch/>
        </p:blipFill>
        <p:spPr>
          <a:xfrm>
            <a:off x="1979640" y="1557360"/>
            <a:ext cx="4824360" cy="42559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250920" y="5877000"/>
            <a:ext cx="8569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. Каменск-Уральский  учитель СОШ № 3 им. П.И. Беляева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Ершова Елена Геннад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2009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5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68360" y="198900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1332000" y="2276640"/>
            <a:ext cx="33130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Движение разрешается!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Можешь переходить улицу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429022"/>
          <p:cNvPicPr/>
          <p:nvPr/>
        </p:nvPicPr>
        <p:blipFill>
          <a:blip r:embed="rId1"/>
          <a:stretch/>
        </p:blipFill>
        <p:spPr>
          <a:xfrm>
            <a:off x="4932360" y="1557360"/>
            <a:ext cx="3448080" cy="4103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250920" y="33336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ользуйтесь подземным, надземным и наземным перехо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dou_5"/>
          <p:cNvPicPr/>
          <p:nvPr/>
        </p:nvPicPr>
        <p:blipFill>
          <a:blip r:embed="rId1"/>
          <a:stretch/>
        </p:blipFill>
        <p:spPr>
          <a:xfrm>
            <a:off x="1042920" y="1484280"/>
            <a:ext cx="7256520" cy="5118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539640" y="33336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Не перебегай проезжую часть перед близко идущим транспорт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pic8"/>
          <p:cNvPicPr/>
          <p:nvPr/>
        </p:nvPicPr>
        <p:blipFill>
          <a:blip r:embed="rId1"/>
          <a:stretch/>
        </p:blipFill>
        <p:spPr>
          <a:xfrm>
            <a:off x="684360" y="1989000"/>
            <a:ext cx="7758000" cy="3945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24000" y="33336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Не обходи стоящий автомобиль - это опасно. Подожди пока он отъедет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65161"/>
          <p:cNvPicPr/>
          <p:nvPr/>
        </p:nvPicPr>
        <p:blipFill>
          <a:blip r:embed="rId1"/>
          <a:stretch/>
        </p:blipFill>
        <p:spPr>
          <a:xfrm>
            <a:off x="179280" y="1700280"/>
            <a:ext cx="3600720" cy="4824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1(4)"/>
          <p:cNvPicPr/>
          <p:nvPr/>
        </p:nvPicPr>
        <p:blipFill>
          <a:blip r:embed="rId2"/>
          <a:stretch/>
        </p:blipFill>
        <p:spPr>
          <a:xfrm>
            <a:off x="5148360" y="2133720"/>
            <a:ext cx="379080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395280" y="333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Ожидая транспорт, стойте только на посадочных площадках или обоч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131740"/>
          <p:cNvPicPr/>
          <p:nvPr/>
        </p:nvPicPr>
        <p:blipFill>
          <a:blip r:embed="rId1"/>
          <a:stretch/>
        </p:blipFill>
        <p:spPr>
          <a:xfrm>
            <a:off x="2340000" y="1484280"/>
            <a:ext cx="4873680" cy="5229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одходите для посадки только после полной остановки  транспортного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imgап"/>
          <p:cNvPicPr/>
          <p:nvPr/>
        </p:nvPicPr>
        <p:blipFill>
          <a:blip r:embed="rId1"/>
          <a:stretch/>
        </p:blipFill>
        <p:spPr>
          <a:xfrm>
            <a:off x="1476360" y="1484280"/>
            <a:ext cx="6696000" cy="502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Необходимо пристегнут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если вы едите в легковом автомоби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title"/>
          <p:cNvPicPr/>
          <p:nvPr/>
        </p:nvPicPr>
        <p:blipFill>
          <a:blip r:embed="rId1"/>
          <a:stretch/>
        </p:blipFill>
        <p:spPr>
          <a:xfrm>
            <a:off x="1908000" y="1989000"/>
            <a:ext cx="5249880" cy="3832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елосипедистам не следует устраивать гонки на проезжей части и на тротуа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52149311_orig"/>
          <p:cNvPicPr/>
          <p:nvPr/>
        </p:nvPicPr>
        <p:blipFill>
          <a:blip r:embed="rId1"/>
          <a:stretch/>
        </p:blipFill>
        <p:spPr>
          <a:xfrm>
            <a:off x="2340000" y="1413000"/>
            <a:ext cx="461808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едите велосипед рядом, если переходите улицу. Не рискуйте, переезжая дорог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perekhod"/>
          <p:cNvPicPr/>
          <p:nvPr/>
        </p:nvPicPr>
        <p:blipFill>
          <a:blip r:embed="rId1"/>
          <a:stretch/>
        </p:blipFill>
        <p:spPr>
          <a:xfrm>
            <a:off x="2336760" y="1484280"/>
            <a:ext cx="4611600" cy="5113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539640" y="189000"/>
            <a:ext cx="80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Катайтесь на роликах, скейтбордах и велосипедах в местах предназначенных для эт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70000001"/>
          <p:cNvPicPr/>
          <p:nvPr/>
        </p:nvPicPr>
        <p:blipFill>
          <a:blip r:embed="rId1"/>
          <a:stretch/>
        </p:blipFill>
        <p:spPr>
          <a:xfrm>
            <a:off x="395280" y="2421000"/>
            <a:ext cx="2998800" cy="3168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25"/>
          <p:cNvPicPr/>
          <p:nvPr/>
        </p:nvPicPr>
        <p:blipFill>
          <a:blip r:embed="rId2"/>
          <a:stretch/>
        </p:blipFill>
        <p:spPr>
          <a:xfrm>
            <a:off x="4643280" y="2349360"/>
            <a:ext cx="4179960" cy="3160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79280" y="11592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5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Ходи по тротуару, придерживаясь правой сторон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131736"/>
          <p:cNvPicPr/>
          <p:nvPr/>
        </p:nvPicPr>
        <p:blipFill>
          <a:blip r:embed="rId1"/>
          <a:stretch/>
        </p:blipFill>
        <p:spPr>
          <a:xfrm>
            <a:off x="2556000" y="2060640"/>
            <a:ext cx="4092480" cy="4390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539640" y="404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Не играйте на проезжей част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5"/>
          <p:cNvPicPr/>
          <p:nvPr/>
        </p:nvPicPr>
        <p:blipFill>
          <a:blip r:embed="rId1"/>
          <a:stretch/>
        </p:blipFill>
        <p:spPr>
          <a:xfrm>
            <a:off x="2050920" y="1268280"/>
            <a:ext cx="5280120" cy="5110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468360" y="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За городом нужно идти по обочине дороги навстречу движущемуся транспорту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pic10"/>
          <p:cNvPicPr/>
          <p:nvPr/>
        </p:nvPicPr>
        <p:blipFill>
          <a:blip r:embed="rId1"/>
          <a:stretch/>
        </p:blipFill>
        <p:spPr>
          <a:xfrm>
            <a:off x="0" y="3751200"/>
            <a:ext cx="4356000" cy="3106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Ildviz1"/>
          <p:cNvPicPr/>
          <p:nvPr/>
        </p:nvPicPr>
        <p:blipFill>
          <a:blip r:embed="rId2"/>
          <a:stretch/>
        </p:blipFill>
        <p:spPr>
          <a:xfrm>
            <a:off x="4392720" y="1844640"/>
            <a:ext cx="4751280" cy="3705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5"/>
          <p:cNvSpPr/>
          <p:nvPr/>
        </p:nvSpPr>
        <p:spPr>
          <a:xfrm>
            <a:off x="0" y="0"/>
            <a:ext cx="9144000" cy="63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Arial"/>
              </a:rPr>
              <a:t>Ссылки на материа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gaf.char.ru/books/_54000026758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freelance.ru/img/portfolio/big/131736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2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unde.ru/img.php?src=Ildviz3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3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ddt-vmost.narod.ru/pdd/svet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4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freelance.ru/img/portfolio/big/131738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5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net-planet.ru/img/articles/129012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6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avtocity.org/content/image/11378_1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7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timeszp.com/public/upload/images/Kar_1/svetofor3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8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etag.com.ua/img/news/normal/umnye-dorogi-v-stolice-pochti-real-nost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-9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www.kp.ru/upimg/5a3e8f353c90697f8fa8aa939d18ebfb3dd46ab0/429022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0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centrpro.ru/plakat/dou/znak/dou_5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fio.novgorod.ru/projects/Project675/pic8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2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www.kp.ru/upimg/photo/65161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3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www.rotek-avto.ru/images/1(4)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3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freelance.ru/img/portfolio/big/131740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4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www.unde.ru/img.php?src=Ildviz2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5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www.dp59.ru/files/Image/title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6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moikompas.ru/img/compas/2008-03-25/bezopasnost_deti/52149311_orig.jpg -17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velopiter.spb.ru/club/foto/perekhod.jpg -18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school9sko.narod.ru/pam/70000001.jpg -19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tavto.ru/pics/blog/big/0/25.jpg -19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fio.cc-opt.kolasc.net.ru/projects/pr1069/images/5.jpg -20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fio.novgorod.ru/projects/Project675/pic10.jpg -2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unde.ru/images/photo/Ildviz1.jpg -2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250920" y="260280"/>
            <a:ext cx="8713800" cy="53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Используемая лит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йзман Р.И., Абаскалова Н.П., Лысова Н.Ф., Иашвили М.В. Памятка по безопасности жизнедеятельности для учащихся средней школы. - Сибирское университетское издательство, 200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йзман Р.И., Абаскалова Н.П., Лысова Н.Ф., Иашвили М.В. Памятка по безопасности жизнедеятельности для учащихся начальной школы. - Сибирское университетское издательство, 200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ставила:Ершова Е.Г., классный руководитель 6 класса, учитель СОШ № 3, г. Каменск-Уральский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ля любого классного руководителя инструктажи – одно из обязательных мероприятий в классе. Ребята будут не только слушать вас, но и смотреть все пункты на экране. Это поможет лучше запомнить важную для их жизни информац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сь инструктаж разделен на части-слайды. После каждого слайда можно подробнее рассмотреть пункт инструктаж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0" y="33336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174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ереходи улицу только по пешеходному перех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img"/>
          <p:cNvPicPr/>
          <p:nvPr/>
        </p:nvPicPr>
        <p:blipFill>
          <a:blip r:embed="rId1"/>
          <a:stretch/>
        </p:blipFill>
        <p:spPr>
          <a:xfrm>
            <a:off x="900000" y="134136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26028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ереходя дорогу остановись, посмотри, нет ли близко автомобиля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vet"/>
          <p:cNvPicPr/>
          <p:nvPr/>
        </p:nvPicPr>
        <p:blipFill>
          <a:blip r:embed="rId1"/>
          <a:stretch/>
        </p:blipFill>
        <p:spPr>
          <a:xfrm>
            <a:off x="971640" y="1700280"/>
            <a:ext cx="7345440" cy="4699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324000" y="2602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Переходя улицу с двусторонним движением по пешеходному переходу, посмотрите налево и направо, убедитесь, что поблизости нет автомобиля или приближающиеся транспортные средства остановились и переходите доро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131738"/>
          <p:cNvPicPr/>
          <p:nvPr/>
        </p:nvPicPr>
        <p:blipFill>
          <a:blip r:embed="rId1"/>
          <a:stretch/>
        </p:blipFill>
        <p:spPr>
          <a:xfrm>
            <a:off x="2340000" y="2276640"/>
            <a:ext cx="4035240" cy="4365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611280" y="333360"/>
            <a:ext cx="79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Всегда пропускайте автомобили с включенными спецсигнал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129012"/>
          <p:cNvPicPr/>
          <p:nvPr/>
        </p:nvPicPr>
        <p:blipFill>
          <a:blip r:embed="rId1"/>
          <a:stretch/>
        </p:blipFill>
        <p:spPr>
          <a:xfrm>
            <a:off x="2050920" y="2276640"/>
            <a:ext cx="4791240" cy="3832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50920" y="260280"/>
            <a:ext cx="781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ереходи улицу только на зеленый св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11378_1"/>
          <p:cNvPicPr/>
          <p:nvPr/>
        </p:nvPicPr>
        <p:blipFill>
          <a:blip r:embed="rId1"/>
          <a:stretch/>
        </p:blipFill>
        <p:spPr>
          <a:xfrm>
            <a:off x="2916360" y="1557360"/>
            <a:ext cx="324000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24000" y="2421000"/>
            <a:ext cx="4968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Всякое движение запрещено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Остановись и жди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svetofor3"/>
          <p:cNvPicPr/>
          <p:nvPr/>
        </p:nvPicPr>
        <p:blipFill>
          <a:blip r:embed="rId1"/>
          <a:stretch/>
        </p:blipFill>
        <p:spPr>
          <a:xfrm>
            <a:off x="5508720" y="1341360"/>
            <a:ext cx="232560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24000" y="2637000"/>
            <a:ext cx="36716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нимание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Ждите нового сигнала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umnye-dorogi-v-stolice-pochti-real-nost-"/>
          <p:cNvPicPr/>
          <p:nvPr/>
        </p:nvPicPr>
        <p:blipFill>
          <a:blip r:embed="rId1"/>
          <a:stretch/>
        </p:blipFill>
        <p:spPr>
          <a:xfrm>
            <a:off x="4322880" y="1557360"/>
            <a:ext cx="411480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1:32:17Z</dcterms:created>
  <dc:creator>Ershova</dc:creator>
  <dc:description/>
  <dc:language>en-US</dc:language>
  <cp:lastModifiedBy>User</cp:lastModifiedBy>
  <dcterms:modified xsi:type="dcterms:W3CDTF">2018-11-22T10:01:54Z</dcterms:modified>
  <cp:revision>66</cp:revision>
  <dc:subject/>
  <dc:title>Слайд 1</dc:title>
</cp:coreProperties>
</file>